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44607"/>
        <c:axId val="5604572"/>
      </c:barChart>
      <c:catAx>
        <c:axId val="47644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4572"/>
        <c:crosses val="autoZero"/>
        <c:auto val="1"/>
        <c:lblAlgn val="ctr"/>
        <c:lblOffset val="100"/>
        <c:noMultiLvlLbl val="0"/>
      </c:catAx>
      <c:valAx>
        <c:axId val="5604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44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E03-2A51-4046-8834-307BEBE9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186-9E5E-444F-88DE-79D4CF16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653-1A31-4092-BF58-59AB4657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695-3737-4B98-8B7F-EEB4E620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737-FC77-449A-98B1-2CEF7EC3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845-6596-416C-A146-AD66AC80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F23-1302-4EE7-8E6A-8FCF1C6A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AFB-BA03-413B-9A73-28C7C642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892-6793-4899-AAD7-CA7827C0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D8B-5127-4C85-A45F-A7A127B2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AE5-CA5E-4E3C-9D5D-B975EA36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2CF-B1C5-4A77-BEF7-ED9E3FBD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AA5B8-6AD5-4CC8-BB11-795A7712EF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