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701548"/>
        <c:axId val="10238621"/>
      </c:barChart>
      <c:catAx>
        <c:axId val="557015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38621"/>
        <c:crosses val="autoZero"/>
        <c:auto val="1"/>
        <c:lblAlgn val="ctr"/>
        <c:lblOffset val="100"/>
        <c:noMultiLvlLbl val="0"/>
      </c:catAx>
      <c:valAx>
        <c:axId val="102386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015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AD64-5B83-45F1-B77C-FDA67820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2D79-4F63-44E8-8B9E-7C584D86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9841-4F6B-41E5-AB9F-5E9FF96B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31F8-AE5B-4911-9881-AB1C9174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7CA6-EBD0-4F1C-A924-37005561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96DB-5D82-4694-92E7-25F70285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C2A7-3877-4DAE-AA60-8D2A8482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02A6-43BC-4D85-9869-A7144715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49CC-5ADB-4F70-A0DD-BB2D8276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19C5-91A3-4EAF-9E35-94EA865A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3409-E3F7-40B0-9C1E-5CFB67E1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B003-1062-47F4-8395-E6E7C8D2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752DE-33A7-44C4-89F0-0650884B09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