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47551"/>
        <c:axId val="74113823"/>
      </c:barChart>
      <c:catAx>
        <c:axId val="42247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3823"/>
        <c:crosses val="autoZero"/>
        <c:auto val="1"/>
        <c:lblAlgn val="ctr"/>
        <c:lblOffset val="100"/>
        <c:noMultiLvlLbl val="0"/>
      </c:catAx>
      <c:valAx>
        <c:axId val="74113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47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315-4314-4849-91E9-10CEFCC8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372-4FBE-4897-B3E7-852EAA4A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B51-A15A-4975-932B-94C06CDE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86F-11E7-419D-874F-404D3394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1F1-6B93-4E67-AF61-D9031B74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608-1B0D-403E-B418-60F20557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52C-C3FB-4B7C-B668-5226CB2F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CBB-CA21-46C0-84E3-10423D55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AD3-7C75-4CE1-B766-0BA96B0F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B32-789C-493F-B3EB-773F312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352-DE14-44E5-BA1F-0DA9A00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0EF-3BF8-4D3E-A169-A04D425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8482A-C81D-4B93-9C61-60D70AB584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