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97847"/>
        <c:axId val="11549373"/>
      </c:barChart>
      <c:catAx>
        <c:axId val="78397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49373"/>
        <c:crosses val="autoZero"/>
        <c:auto val="1"/>
        <c:lblAlgn val="ctr"/>
        <c:lblOffset val="100"/>
        <c:noMultiLvlLbl val="0"/>
      </c:catAx>
      <c:valAx>
        <c:axId val="11549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97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C4E-9C68-4580-AEFC-FDE9089F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3B4-A166-4DE5-8A83-589C4BC3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D0D-6ABA-454D-A4A9-67D5C0F2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3E5-EF12-4BF6-BC00-0C26F73B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82B-F174-41FD-955F-D42E652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65B-E4CC-4443-9CE7-8B5A4AC6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F1C-2A98-41AF-84FA-231B74AA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973-DE17-4087-A7AE-C29AF287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B17-5CB3-4444-BF47-64AA6571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B27-DC28-4826-9BF7-4A975B7F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449-3B72-4069-871C-7215B930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244-5C09-4053-9022-BD9B1FF9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7C008-B6A8-4960-A89A-FA76DA983D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