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93719"/>
        <c:axId val="8282874"/>
      </c:barChart>
      <c:catAx>
        <c:axId val="97693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874"/>
        <c:crosses val="autoZero"/>
        <c:auto val="1"/>
        <c:lblAlgn val="ctr"/>
        <c:lblOffset val="100"/>
        <c:noMultiLvlLbl val="0"/>
      </c:catAx>
      <c:valAx>
        <c:axId val="8282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93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618-C963-4247-A414-6F527FB3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016-83F7-4E52-BA4F-9F154B2D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2B0-6887-454D-9B25-275AD553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626-CF47-4C91-98C9-C6903E60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313-9346-48C9-8042-F0014F52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52A-DC0B-44F1-BD71-CF9AED38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E05-737D-4359-94B7-BC1A3005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2CF-15DE-457C-B6A6-0F390B7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C56-A29E-4223-93FF-B429F58C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5FD-859B-4836-8691-9296EEE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BC8-C613-42E4-A7B2-400B8AD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692-DB44-4D28-A7CB-0536415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B91B-D42A-479D-97B0-1E2446584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