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31441"/>
        <c:axId val="55875255"/>
      </c:barChart>
      <c:catAx>
        <c:axId val="87031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75255"/>
        <c:crosses val="autoZero"/>
        <c:auto val="1"/>
        <c:lblAlgn val="ctr"/>
        <c:lblOffset val="100"/>
        <c:noMultiLvlLbl val="0"/>
      </c:catAx>
      <c:valAx>
        <c:axId val="55875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31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9FC-2F6E-4978-A849-DBA3CD3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9E6-93BA-432F-A12F-48994641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03B-D9E6-4A2C-980E-654385B5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277-B8D9-4F82-B08F-7C890B5E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194-755D-40AF-8754-B5F37171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1EE-95DE-49AB-B4BC-608D730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916-4071-4889-B4E9-66061ABD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D82-DE29-4008-8357-B917084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273-F4FC-4215-884E-69BD887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19B-4307-4232-80EE-5613DAC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E7A-7005-4547-BE0C-C738627B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4CF-D9E1-40FC-A090-FEDF4FB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2C890-0FBB-471C-9BA9-98CAAD9618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