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51364"/>
        <c:axId val="45319138"/>
      </c:barChart>
      <c:catAx>
        <c:axId val="89451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19138"/>
        <c:crosses val="autoZero"/>
        <c:auto val="1"/>
        <c:lblAlgn val="ctr"/>
        <c:lblOffset val="100"/>
        <c:noMultiLvlLbl val="0"/>
      </c:catAx>
      <c:valAx>
        <c:axId val="45319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51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4E4-2816-4C2C-B8E5-F9B782A1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1A6-5C68-4D49-8794-09E1AE98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7D9-BD2B-426D-9919-63BE50BB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296-8473-492F-8C48-8C474DEC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235-9BC6-4B6D-8CBA-A7ABE075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C04-820E-4D1E-9BBF-E16674C1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F99-4251-48AD-9E3C-862CC677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C64-3559-4092-9B8C-88A35B19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8D83-273A-4290-A5BC-1D4EE059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E43-5B3D-4B43-8635-682F0FC0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DF1-A0CA-4480-9457-C51E76F6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1B3-A2D9-45AF-B2A2-C2DEBB70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57E4C-8E66-496D-9280-254CFF48F3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