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09524"/>
        <c:axId val="91008003"/>
      </c:barChart>
      <c:catAx>
        <c:axId val="34909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08003"/>
        <c:crosses val="autoZero"/>
        <c:auto val="1"/>
        <c:lblAlgn val="ctr"/>
        <c:lblOffset val="100"/>
        <c:noMultiLvlLbl val="0"/>
      </c:catAx>
      <c:valAx>
        <c:axId val="91008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09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FFE-BADC-4EFF-B3F9-74727D87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01E-4725-468B-8215-5E3E32F1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4BC-6D9F-47C1-BF54-3834ED1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CD0-68A5-4FC8-8A2B-301F0B71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4DA-C789-4B4F-A842-483C575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C7D-8EBD-4A2F-944A-46C5E2C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294-A4E9-46D2-9169-62E8A49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A66-0AED-4B7C-9A73-0FAB33E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4FC-8BC2-4D0E-8932-AF556916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8A1-FA63-488C-BAE6-1D08A11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95D-8B18-48F9-A0C5-6D526EB2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A52-A0EA-439F-BA6A-44950FE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8B66-23F0-47EC-AE6D-2ABCE6D7DE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