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84656"/>
        <c:axId val="33313810"/>
      </c:barChart>
      <c:catAx>
        <c:axId val="8418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13810"/>
        <c:crosses val="autoZero"/>
        <c:auto val="1"/>
        <c:lblAlgn val="ctr"/>
        <c:lblOffset val="100"/>
        <c:noMultiLvlLbl val="0"/>
      </c:catAx>
      <c:valAx>
        <c:axId val="33313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8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57A-4EB8-46B0-ACA0-FEDA661A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487-D7FF-4164-A9C7-0035892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7A3-AD02-44E8-8D69-416427ED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AE2-CD8C-49C1-B980-0F99F4E9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49C-E1C9-49DC-A057-CDE1680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E40-27AA-4755-8203-34D5E7B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505-520E-409A-8E52-AC8E8EEC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D5C-2A81-444E-B1FC-E341412A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2D0-BB97-4C19-B28C-F6376CE5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2A0-3B3A-431D-8CDD-4F45382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F5C-1263-40CD-B989-03DD874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004-289D-4B44-80B9-B371FE5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351DB-9D93-4ABC-8A73-22BFCDDBB6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