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0520"/>
        <c:axId val="96412152"/>
      </c:barChart>
      <c:catAx>
        <c:axId val="7780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2152"/>
        <c:crosses val="autoZero"/>
        <c:auto val="1"/>
        <c:lblAlgn val="ctr"/>
        <c:lblOffset val="100"/>
        <c:noMultiLvlLbl val="0"/>
      </c:catAx>
      <c:valAx>
        <c:axId val="96412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229-5CBC-4690-954D-6522BB24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4C6-AAA6-4784-BA3F-FFB154C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346-0F33-4F8D-9619-A08F717B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051-203D-44B3-A5B0-1672BB8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4EE-2569-4188-872A-C903532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4D0-C8A3-4AA8-B3B5-01F7317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22B-678C-4D0D-9937-A891457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9B0-80D8-4FAB-9D38-87AC069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092-43D3-4D4B-BFD6-FE6257D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9F7-B595-4A96-B84A-19AB304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422-C9D1-4034-B46A-62532E1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57F-3CBC-4AC8-9A8E-14CCC39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C2431-A9ED-4DBD-80FE-5640D9AD8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