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57414"/>
        <c:axId val="80702946"/>
      </c:barChart>
      <c:catAx>
        <c:axId val="58357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2946"/>
        <c:crosses val="autoZero"/>
        <c:auto val="1"/>
        <c:lblAlgn val="ctr"/>
        <c:lblOffset val="100"/>
        <c:noMultiLvlLbl val="0"/>
      </c:catAx>
      <c:valAx>
        <c:axId val="807029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57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862-5D1D-4E61-B844-DBF0A0A7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240-6A5E-4A83-8339-18790181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87B-7BC5-456F-98E2-DFD64BE7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923-B40A-400A-BB68-28FADC67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4BA-FE48-4BA8-AB8E-3605ADC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ADE-04AD-4F6A-A943-B778E220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BF7-7EE6-480A-95CF-A553A78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93F-1313-4984-B5FA-B7EF113E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522-16D1-432B-BF01-6B27258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035-1EED-49D5-9DB9-E0267F74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4AB-8C12-4D63-9B6F-229E12D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E22-0741-449B-9010-E64F41C1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997B8-9AF0-432F-BA5B-808CD62F77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