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93133"/>
        <c:axId val="63943763"/>
      </c:barChart>
      <c:catAx>
        <c:axId val="21893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43763"/>
        <c:crosses val="autoZero"/>
        <c:auto val="1"/>
        <c:lblAlgn val="ctr"/>
        <c:lblOffset val="100"/>
        <c:noMultiLvlLbl val="0"/>
      </c:catAx>
      <c:valAx>
        <c:axId val="63943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93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1DC-89FA-4046-A6F7-8AC566D5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A10-5663-4EDB-B86A-8AF0515A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197-012A-402F-9756-B379D5D6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26A-D4D5-4C0C-8983-B1486F4A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6C9-CF1A-4A4D-A332-011FEAA0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84D-9DF4-4394-A2E9-DCE2B8DB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FFD-AB04-4DD9-AB2D-888D6D66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A5F-14D6-4F85-8A2A-25218436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08B-3B3B-49DC-9150-7ED67179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D39-E980-4BB8-AEDB-2FD8CA56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E4F-11FB-4CF7-AABB-27F59E73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57C-7715-4CFE-ACB5-0F19AB0E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6C689-83E5-4850-A6B4-5564611F87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