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01766"/>
        <c:axId val="94411634"/>
      </c:barChart>
      <c:catAx>
        <c:axId val="50001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11634"/>
        <c:crosses val="autoZero"/>
        <c:auto val="1"/>
        <c:lblAlgn val="ctr"/>
        <c:lblOffset val="100"/>
        <c:noMultiLvlLbl val="0"/>
      </c:catAx>
      <c:valAx>
        <c:axId val="94411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1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191-DC45-43CC-9F67-8AD7B763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459-74BC-4F94-A922-488197B7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A41-B2D4-4D76-8D5C-55286DA8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461-A50E-4760-AD0D-7A06D693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B8F-149E-4556-ABB2-AA8AC010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098-53AD-496B-89E7-3026D6C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F9-76BD-402E-8546-2290D339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BD0-76B2-42F6-BC04-5814380E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0C5-8785-4668-9320-FFF230D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7D1-D25E-4F4B-87F7-4001A97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377-A500-41B9-BD1C-D82F31D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8A3-E971-4AA2-8012-C3799E6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9BB64-5F04-483D-AC2F-548250AE40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