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110636"/>
        <c:axId val="10731405"/>
      </c:barChart>
      <c:catAx>
        <c:axId val="511106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31405"/>
        <c:crosses val="autoZero"/>
        <c:auto val="1"/>
        <c:lblAlgn val="ctr"/>
        <c:lblOffset val="100"/>
        <c:noMultiLvlLbl val="0"/>
      </c:catAx>
      <c:valAx>
        <c:axId val="107314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106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ADC7-8048-4705-9AF6-C2659F877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0839-76FF-4EB9-83FB-27DFE243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C3DF-13C2-43B4-9B33-9F36A4E89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AABD-EFCA-48F6-8C57-A4CF9FF7C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3247-D04F-4F0D-9875-AD04FCE7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2904-AE46-4CB0-A425-45E74FC0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7B4A-C7D5-4076-ADD2-F8907900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2192-4556-4879-B594-259A0FE3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E731-8272-431C-8366-D7053655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BECC-19B2-4C46-BCEC-84A847B3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75C1-A6A8-4E02-B783-74FB26FF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133B-2660-4868-8027-64C09D8E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7F0A9-7D1D-4701-BEAE-EBF2DB34A4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