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43277"/>
        <c:axId val="2903714"/>
      </c:barChart>
      <c:catAx>
        <c:axId val="36943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3714"/>
        <c:crosses val="autoZero"/>
        <c:auto val="1"/>
        <c:lblAlgn val="ctr"/>
        <c:lblOffset val="100"/>
        <c:noMultiLvlLbl val="0"/>
      </c:catAx>
      <c:valAx>
        <c:axId val="29037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43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155-CC03-4B4F-A3BB-30F85041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BF43-1ED7-484C-B5E8-A4FCB735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8CB-6324-453B-915E-9A6A87F9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1DC-7DDC-4992-840E-76203C68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036-546C-477D-8C7A-06D69D15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608-1942-4938-B743-015C5B0D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988-830F-42A7-B1DA-9548DB66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4590-5A8A-4340-AA5B-7E1C11BD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A347-2DCE-4EFD-AA62-4E3D4487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21C-2D20-4C10-9146-34659243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DE65-6A68-4851-8C91-2C0D441D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D949-11A0-44B5-A3D7-5D7352C2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3C9C8-4305-4110-AA7A-ECA5C023DB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